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91411"/>
        <c:axId val="37539923"/>
      </c:barChart>
      <c:catAx>
        <c:axId val="65891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39923"/>
        <c:crosses val="autoZero"/>
        <c:auto val="1"/>
        <c:lblAlgn val="ctr"/>
        <c:lblOffset val="100"/>
        <c:noMultiLvlLbl val="0"/>
      </c:catAx>
      <c:valAx>
        <c:axId val="37539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91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C90-0D8B-43E2-93BB-099098D5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B75-76EA-4E90-A6A8-C36C3538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B0C-0847-4C20-95E5-9CD40D11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435E-48FC-4256-A880-A3115688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F3A-BA4B-482C-9D3A-AD065E43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091-78E9-4696-ABA3-58BBCFD6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81B-2B18-4AE4-8E92-0FFCCA9D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0618-CBA8-4124-BB01-CC989968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0FC-43D2-46FE-BB18-02F1C315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3D3-7879-4929-8412-AB0E2E37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E96-B189-4F3D-B033-BF83C073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9F3-CB65-42AD-86ED-CB12C286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52B6F-16C4-4BEC-8F9F-A93E7589F9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