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12611"/>
        <c:axId val="63283235"/>
      </c:barChart>
      <c:catAx>
        <c:axId val="77312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83235"/>
        <c:crosses val="autoZero"/>
        <c:auto val="1"/>
        <c:lblAlgn val="ctr"/>
        <c:lblOffset val="100"/>
        <c:noMultiLvlLbl val="0"/>
      </c:catAx>
      <c:valAx>
        <c:axId val="63283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12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134-2CDA-41EA-9311-8C0C8103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631-6668-4D31-8294-B6C86B41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929-1DEC-4ADC-95A6-29E59B2B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5D7-0BBB-47CC-8299-6FA57659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2A3-97DE-4685-9694-E8146729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19B-2D14-4A73-81C5-A499E2AB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07B-291A-4225-A7E2-EB117FF7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522-26FA-41DE-A270-8F9F8035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ECE-30AB-470F-942F-EB2DD513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E6E-B996-43C0-801A-5084A134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B6E-5131-4C3A-B7EE-F6A7367E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D15-53E0-44E0-B554-4F1A0155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A4F90-EEE6-40AB-A125-E04BB42D49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