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3996042"/>
        <c:axId val="47442981"/>
      </c:barChart>
      <c:catAx>
        <c:axId val="7399604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442981"/>
        <c:crosses val="autoZero"/>
        <c:auto val="1"/>
        <c:lblAlgn val="ctr"/>
        <c:lblOffset val="100"/>
        <c:noMultiLvlLbl val="0"/>
      </c:catAx>
      <c:valAx>
        <c:axId val="4744298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99604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E93C-54D4-4928-983D-EDDFA4CE6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89A7-8382-41B4-92F8-7BDB102FE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A762-AA8D-42E4-84AE-926D6498D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76A4-078C-4F91-8568-465529506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3C49-A1A5-481A-B829-9B837AED6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0C16-B088-4C9C-B053-CFFF25D76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CB40-9B41-40C4-A349-DBD219A38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1B1F-70F9-4139-B234-FE9181192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3005-20BF-44FF-9390-4A6414810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B3B0-7A51-4470-BC72-3ECBBAB35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1BD5-25B4-40A3-968B-E084ACC97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66C8-5970-4342-A255-DDAD1653A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91922D-7E83-4076-A89D-92BA04515D4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