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08067"/>
        <c:axId val="42728839"/>
      </c:barChart>
      <c:catAx>
        <c:axId val="39908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8839"/>
        <c:crosses val="autoZero"/>
        <c:auto val="1"/>
        <c:lblAlgn val="ctr"/>
        <c:lblOffset val="100"/>
        <c:noMultiLvlLbl val="0"/>
      </c:catAx>
      <c:valAx>
        <c:axId val="42728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8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8EA-EFE0-4B5D-BD94-286315E5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6D9-C877-4AB6-80F6-434DEE6A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4DD-2DD3-446C-9565-B24A07EA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1F7-6727-4CEA-9B44-FAEFBBF9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802-F7AF-4D50-9D7D-41E631B7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168-6557-451A-8A67-F6B2775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EF5-E9F3-48D2-B316-3BA84E9B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9BF-737E-4077-94FF-ECFFC82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BF5-1A88-45FD-8CBD-54B9263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4B2-D6D9-46FC-9E73-11D50F8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0F3-3C3D-439A-80FC-E1492C0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2D9-87CA-491B-B45B-5CD3495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75233-9AC8-49B0-9C41-F74C0E971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