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27968"/>
        <c:axId val="48966451"/>
      </c:barChart>
      <c:catAx>
        <c:axId val="73627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66451"/>
        <c:crosses val="autoZero"/>
        <c:auto val="1"/>
        <c:lblAlgn val="ctr"/>
        <c:lblOffset val="100"/>
        <c:noMultiLvlLbl val="0"/>
      </c:catAx>
      <c:valAx>
        <c:axId val="48966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27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FD8-06B4-4358-A204-52E17651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E4C-0A5C-4C99-B470-1A38B454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1E1-B508-4C10-B00D-B4BE93A4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B76-CFA6-4025-BA5C-313298E1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5A1-E156-48A3-A92E-5FDA1514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169-A238-4A28-A3A2-BD1E4097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E77-45A4-427C-A292-A8CB64CD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959-932D-42A1-B3A6-C95AE0D1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655-3553-481B-97CF-5F7E521F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BD2-EE54-4AD2-9EC3-E37CABFD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CAC-FF3F-4905-B020-E0F00EDC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664-3C98-47B1-904A-9F3CAB75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3C591-3F2F-4877-A7F8-DACD51FA9D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